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3EF7-3D99-4DD8-AB83-1E6F2A35280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C38E-EEF6-4715-AB1D-FA7D0587D7B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2D63-C212-467E-922B-7F670AD2F3F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2C28-027F-45C6-8E86-5121C27A75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30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B3DA-E54C-450A-8509-FB2CA59CC9D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3321-6C50-4CEA-B881-6CBFDF7117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E286-B20B-49F7-B48D-49ED1417CB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A44C0-2B6D-4143-B1C8-9F3C55647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C7E02-6345-4E95-B953-BC56A5B25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F2449-FE0A-48BA-8A50-CB3E59DB1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7674E-70F8-484A-AD15-EB6923EBA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3A82A-B7E1-475B-BEA5-7BF73AA6E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29EFE-9870-48C4-B8A3-AA3ED1F36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B7D69-992D-464E-A933-9420BCF0D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C3217-32E1-4505-B2A5-5C0CF3F41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F1B55-4BE5-409D-A108-5F3F7CCA5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A35A5-4B4F-4A36-905A-F2EB0A8E7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29CB8-4433-47EC-8285-6309101E8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2B589-A254-4ACE-88FC-A67441AA4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F39A-CA91-4892-A4F8-0D26B6B513C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30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6-02-07T22:04:44Z</dcterms:modified>
  <cp:revision>23</cp:revision>
  <dc:subject/>
  <dc:title>Languages</dc:title>
</cp:coreProperties>
</file>